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417C-F9BC-4154-B031-76C33506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17A3-DE23-43A8-B570-483A10BD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A11-AA76-4867-9815-758C61D7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CCC-07D7-4820-BCFA-598CF06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3BD-2EE1-4ED9-AE01-65FE9B82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4CD-C962-4A51-B3D8-1A8B6F31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9A6-0E7B-4321-BC73-0D0CD72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ED0-4BEF-409B-9DBC-78972742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EFD-3FFD-4AF3-A24D-974073F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7C8-E88D-4F00-A2CB-7AFC68F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EC8-C0F7-4843-8BE0-269E53B8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4EE-30D5-45B4-AE0B-20FD7CA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E4E-E8A7-462B-A2DC-D09E951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7A1-C91C-499C-B24D-CC9EDCC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8FA-3445-418B-BFBE-41011B1D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Me llamo_________ Clase 802</a:t>
            </a:r>
            <a:br>
              <a:rPr sz="4000"/>
            </a:b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La fecha es el 3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alieron ellos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: to review for tomorrow’s grammar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 en el prete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i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h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mp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bre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i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wr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met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dr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y and complete the following sentences with the correct form of the verb in the PRETE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__________ comprar el paste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o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uchos regal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c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niños _________ la piña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om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la _________ las invitacion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mucha gaseos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_____ en usar globos en la fies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nsist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muchos vegetales crud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Ustedes ___________ años ayer tambié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mp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o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1-8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cp:lastPrinted>2016-05-02T14:16:33Z</cp:lastPrinted>
  <dcterms:modified xsi:type="dcterms:W3CDTF">2016-05-03T17:30:50Z</dcterms:modified>
  <cp:revision>6</cp:revision>
  <dc:subject/>
  <dc:title>Me llamo ________ Clase 8im La fecha es el 8 de enero del 2013</dc:title>
</cp:coreProperties>
</file>